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764A-004B-4F5A-B398-578C024F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8070-7619-43F0-9586-E6488A3D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BDCD-D528-4B82-B36E-D73B326AB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9D84-3E2A-44AF-93DD-C8F3ACEC6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A1DB-DE0B-4109-A487-C26D5716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311A-CA8A-4316-8637-4EE91A94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20F4-A184-427E-8890-0B363AF4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3C8F-AD2A-4E5E-A030-D373F7E8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5AC9-75E6-4F58-A572-E844BD9B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C447-62E5-405F-A0C9-18823A02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6C04-9F49-45C9-AC21-924FF61C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F241-70BF-408F-A239-3288115A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4D02-3E23-4988-96B8-28896A9BC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20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932360" y="4508640"/>
            <a:ext cx="42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w Cen MT Condensed Extra Bold"/>
              </a:rPr>
              <a:t>¿hay agua en otros planet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581800" y="2781360"/>
            <a:ext cx="3562200" cy="3562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0920" y="2637000"/>
            <a:ext cx="5545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n Venus, debido a las altas temperaturas, hay agua pero sólo en estado gaseoso. El vapor de agua de Venus está mezclado con varios gases, formando la atmósfera de este plan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940360" y="189000"/>
            <a:ext cx="3052800" cy="228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189000"/>
            <a:ext cx="597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En Mercurio parece que hay agua en forma de hielo en el interior de cráteres no expuestos al S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32720" y="220500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rcu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950160" y="623736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4941720"/>
            <a:ext cx="7559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e piensa que en Marte hubo agua líquida en el pasado, pues hay cauces secos. Al parecer hay agua sólida (hielo) en los po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6160" y="335772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71640" y="26028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215892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16360" y="333360"/>
            <a:ext cx="59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atmósfera marciana está formada por diversos gases y vapor de agu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79280" y="511812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n el resto de planetas el agua aparece en forma de hielo, debido a sus bajas temperat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512640"/>
            <a:ext cx="3671640" cy="2067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03640" y="-819000"/>
            <a:ext cx="6408720" cy="4806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868360" y="270828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u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547640" y="364500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72720" y="450864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ptu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47640" y="3284640"/>
            <a:ext cx="1440000" cy="144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6160" y="450864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ut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651640" y="3860640"/>
            <a:ext cx="546120" cy="546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627640" y="270828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úpi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205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79280" y="189000"/>
            <a:ext cx="532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n nuestro satélite, la Luna, los astronautas no encontraron ni rastro de agu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76720" y="5303880"/>
            <a:ext cx="356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 Condensed Extra Bold"/>
              </a:rPr>
              <a:t>No hay atmósfera en la Luna. Por tanto no hay vapor de agu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628640"/>
            <a:ext cx="45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ños más tarde, se ha descubierto hielo en un polo lunar y en el subsue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900000" y="0"/>
            <a:ext cx="10972800" cy="8553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63640" y="4076640"/>
            <a:ext cx="5905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w Cen MT Condensed Extra Bold"/>
              </a:rPr>
              <a:t>Aquí puedes ver el planeta azul, tu casa, desde la Lun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68360" y="1125360"/>
            <a:ext cx="223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La Tierra es el único lugar del Sistema Solar con agua líquida en su superfi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843280" y="0"/>
            <a:ext cx="8356680" cy="71611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78160" y="234936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 Mediterrán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71640" y="-171360"/>
            <a:ext cx="216000" cy="727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96000" y="58770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ío Ni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7640" y="292428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Delta del Ni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364000" y="3357720"/>
            <a:ext cx="144720" cy="718920"/>
          </a:xfrm>
          <a:prstGeom prst="line">
            <a:avLst/>
          </a:prstGeom>
          <a:ln w="442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2629080" y="-65160"/>
            <a:ext cx="15433920" cy="7016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28720" y="400536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strecho de Gibral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03600" y="364500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orrientes mar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292360" y="4005360"/>
            <a:ext cx="863640" cy="21564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252360" y="-189000"/>
            <a:ext cx="9648720" cy="7236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44360" y="907920"/>
            <a:ext cx="2556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 Extra Bold"/>
              </a:rPr>
              <a:t>La Tierra es el“Planeta Azul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 Condensed Extra Bold"/>
              </a:rPr>
              <a:t>Buena parte de su superficie está cubierta por mares y océan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4T20:59:39Z</dcterms:created>
  <dc:creator>euyin</dc:creator>
  <dc:description/>
  <dc:language>en-US</dc:language>
  <cp:lastModifiedBy>Eugenio</cp:lastModifiedBy>
  <dcterms:modified xsi:type="dcterms:W3CDTF">2009-12-24T12:24:00Z</dcterms:modified>
  <cp:revision>411</cp:revision>
  <dc:subject/>
  <dc:title>Diapositiva 1</dc:title>
</cp:coreProperties>
</file>